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A24-1EE9-47BE-9877-8BC055B9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15F-8760-4A42-B79D-D180050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C13-B49C-430B-84D6-B54F5D548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860-1A0E-4831-830D-67A9E6C5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AD84-FA96-4991-8735-B9C213E0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6C15-BFDA-428F-BA32-3130D46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FE40-8FA0-486C-98A4-4D580340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4267-0E93-4B73-8ABF-F0BC1866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8A0-F77B-42E4-ABEB-C9086CDB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6A82E-0211-4404-80CE-B24100EA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BF18-7E44-4A81-9CDB-40406D73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9CB-B691-40BB-B737-9EA9B30C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8852-37BB-45FA-AD1D-047550E4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6B09-5DAB-4B4B-B675-C1FB6890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A436-8284-417E-AAC9-9C020B51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149A-EB12-428B-BDE5-D0CED1D6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72C5-5F6F-4860-8426-5A6DF362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F7C-152F-48FB-BA92-2227F51A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4CD-3AF7-488F-956F-9C984FC1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666E-6574-4287-A40A-9E8AB36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E96-00E4-4C14-B937-2414A9B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1C0-0D68-4F3A-9923-5D680C74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9EA-4F67-4AEC-9890-4F2D7E7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C33-7836-4AFE-BC4F-1C098CE9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181C-9F1B-4F0E-BCBD-96384C8E4143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C7F-5754-4AF7-AA4E-EBF53AF8EE0F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900000" y="333360"/>
            <a:ext cx="755964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Monotype Corsiva"/>
              </a:rPr>
              <a:t>Sports Car</a:t>
            </a:r>
            <a:endParaRPr b="0" i="1" lang="en-US" sz="96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745080" cy="22003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826920" y="4251240"/>
            <a:ext cx="3457800" cy="24415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5003640" y="4095720"/>
            <a:ext cx="3456000" cy="242892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250920" y="2060640"/>
            <a:ext cx="3168720" cy="203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Lamborghini Gallardo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ype: mid-engine and four wheel driv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Engine: V10 (5.0 liters),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6-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speed single clutc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ransmissio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op spee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302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kph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Front: </a:t>
            </a:r>
            <a:r>
              <a:rPr b="0" i="1" lang="en-AU" sz="1600" spc="-1" strike="noStrike">
                <a:solidFill>
                  <a:srgbClr val="ffffff"/>
                </a:solidFill>
                <a:latin typeface="Times New Roman"/>
              </a:rPr>
              <a:t>235/35 ZR 19</a:t>
            </a:r>
            <a:r>
              <a:rPr b="0" lang="en-A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Rear: </a:t>
            </a:r>
            <a:r>
              <a:rPr b="0" i="1" lang="en-AU" sz="1600" spc="-1" strike="noStrike">
                <a:solidFill>
                  <a:srgbClr val="ffffff"/>
                </a:solidFill>
                <a:latin typeface="Times New Roman"/>
              </a:rPr>
              <a:t>295/30 ZR 19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Dimensions( (inch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Length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69.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74.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45.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00.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Cost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$165,000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o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$ 170,0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Manufacturer: Lamborghin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301680" y="2500200"/>
            <a:ext cx="41940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Lexus LF-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2920" y="1267920"/>
            <a:ext cx="419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ype: font-mid-engine , rear-mid-transax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Engine: V10 (under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5.0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 liter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ransmission: all-wheel-dr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op speed: more than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kp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Fron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65/35R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Rear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305/30R2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Dimensions (inche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Leng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75.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74.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8.0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02.6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Cost:$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70,0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Manufacturer: Lexu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032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Audi R8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ype: mid- engine sports car Engine: V12 (6 litters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ransmission: 6 speed manual, 6 speed single clut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op speed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300km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Dimensions (inche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Length: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74.4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74.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49.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104.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Cost: $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80,000 - $ 110,00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Manufacturer: Audi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301680" y="2367000"/>
            <a:ext cx="38386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Koenigsegg CCX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Body typ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wo seat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Powertrai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ype: mid-eng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Engine:V8 (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.7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liters) and  rear wheel dr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ransmission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6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speed manu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op speed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20kp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Tire siz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Fron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9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inch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Rear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20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inch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Dimensions (inches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Leng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6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idth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78.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Height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44.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Wheelbase: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104.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Cost: $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600,9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eorgia"/>
              </a:rPr>
              <a:t>Manufacturer: Koenigseg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194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06:07:34Z</dcterms:created>
  <dc:creator>Linao</dc:creator>
  <dc:description/>
  <dc:language>en-US</dc:language>
  <cp:lastModifiedBy>Lavinia Sullivan</cp:lastModifiedBy>
  <dcterms:modified xsi:type="dcterms:W3CDTF">2008-03-14T03:27:08Z</dcterms:modified>
  <cp:revision>8</cp:revision>
  <dc:subject/>
  <dc:title>Slide 1</dc:title>
</cp:coreProperties>
</file>